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288-27E9-4069-965F-6BD01B4D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DA9-6D34-4C3E-85B5-DA178A5A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398-4F73-48A0-B454-09756E42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7AF-84C7-40FD-86D6-CB38BCF4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5E8-856F-4778-BFF5-45D53FCF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ADF-E7FD-4C15-853B-8C83F882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0A8-B15B-4CC0-B980-8FF93C3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82F-9B74-4324-990B-6E7818A0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A79-BBDA-4B03-B530-1B47CF72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D91-C42D-4F3F-892B-8A7B42BC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023-7093-4D5D-80C8-447DAE0A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1C5-06C2-4E08-BA68-16227ACF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7D52-0661-4DB7-8D71-AA1F9370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484280"/>
            <a:ext cx="7956720" cy="1557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STEMA COMO CAJA BLANCA O ABIERTA.  SE OBSERVAN Y ANALIZAN LOS SUBSISTEMAS EXISTENTES EN EL GRAN SISTEMA.  ADEMAS DE LAS ENTRADAS Y SAL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43280" y="4437000"/>
            <a:ext cx="1981080" cy="1476360"/>
          </a:xfrm>
          <a:prstGeom prst="rect">
            <a:avLst/>
          </a:prstGeom>
          <a:solidFill>
            <a:srgbClr val="33cc33">
              <a:alpha val="5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5157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472428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9039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2920" y="50832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5373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1280" y="562464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7640" y="47610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64360" y="5013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72000" y="5265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1840" y="53722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5697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612720" cy="252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5445000"/>
            <a:ext cx="755640" cy="397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4653000"/>
            <a:ext cx="468360" cy="216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5408640"/>
            <a:ext cx="179280" cy="360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157720"/>
            <a:ext cx="252720" cy="3589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624640"/>
            <a:ext cx="36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797360"/>
            <a:ext cx="0" cy="82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797360"/>
            <a:ext cx="971280" cy="5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08360" y="4724280"/>
            <a:ext cx="576360" cy="82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40360" y="5373720"/>
            <a:ext cx="395280" cy="1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9880" y="907920"/>
            <a:ext cx="7619760" cy="5427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547640" y="152280"/>
            <a:ext cx="6120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47640" y="152280"/>
            <a:ext cx="6120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1808280"/>
            <a:ext cx="4753080" cy="4021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508720" cy="69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3. Ciclos de materia y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640" y="1449360"/>
            <a:ext cx="2951280" cy="3601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 principal fuente de energía para el ecosistema es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nergía radiante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proveniente del sol, la cual es uti-lizada por los organism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autó-trofos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(producto-res primarios) a través del proces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tosínt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0640"/>
            <a:ext cx="7920000" cy="12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energía incorporada a los productores permite satisfacer sus procesos metabólicos, su crecimiento y desarrollo; parte importante de la energía capturada se pierde en los procesos de respi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8360" y="1413000"/>
            <a:ext cx="2824200" cy="331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557360"/>
            <a:ext cx="5113440" cy="214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os organism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heterótrofos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(consumidores) obtienen su energía a partir de los autó-trofos; parte de ella es empleada en el metabolismo y crecimiento, perdiendo la restante por respiración, emisión de calo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508720" cy="69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3. Ciclos de materia y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904000" y="1714680"/>
            <a:ext cx="270036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95280" y="4005360"/>
            <a:ext cx="5076720" cy="265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Dentro de los heterótrofos de distinto orden se incluyen tam-bién l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scomponedores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, organismos que mineralizan los restos orgánicos y liberan   ele-mentos que pueden ser utili-zados por los productore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2916360" cy="2181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560" y="2023560"/>
            <a:ext cx="3745080" cy="4357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Los flujos de materia  presentan un</a:t>
            </a: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ompor-tamiento</a:t>
            </a:r>
            <a:r>
              <a:rPr b="1" i="1" lang="es-ES" sz="2500" spc="-1" strike="noStrike">
                <a:solidFill>
                  <a:srgbClr val="ffffff"/>
                </a:solidFill>
                <a:latin typeface="Arial"/>
              </a:rPr>
              <a:t> cíclico</a:t>
            </a: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, debi-do a que </a:t>
            </a: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 las plantas, además de convertir la energía radiante en energía química, tam-bién incorporan diver-sos compuestos y ele-mentos inorgánicos, los cuales son reci-clados por la acción de los descomponedo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297000"/>
            <a:ext cx="777564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flujo de la energía e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unidireccion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en cada transferencia ocurren pérd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2060640"/>
            <a:ext cx="3817800" cy="403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34840" y="1321560"/>
            <a:ext cx="2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hu-26822" descr=""/>
          <p:cNvPicPr/>
          <p:nvPr/>
        </p:nvPicPr>
        <p:blipFill>
          <a:blip r:embed="rId1"/>
          <a:stretch/>
        </p:blipFill>
        <p:spPr>
          <a:xfrm>
            <a:off x="468360" y="1111320"/>
            <a:ext cx="8244000" cy="5219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404280"/>
            <a:ext cx="7696080" cy="127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ujos de materia y energía en los ecosistemas. Cadenas tróficas y pirámides ec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8920" y="5121000"/>
            <a:ext cx="7956360" cy="1028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irámides ecológicas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: representación de los niveles niveles tróficos en términos de transferencias de energía a través del sistem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168640"/>
            <a:ext cx="7956360" cy="155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dena alimentaria o cadena trófic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uencia característica de transferencia de energía desde su fuente en los autótrofos y a través de una serie de organismos que consumen y son consum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968640"/>
            <a:ext cx="795636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 o trama tróf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interconexiones y redes de dependencia dentro de las cadenas tró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92360" y="368280"/>
            <a:ext cx="4390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DENA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0920" y="1263600"/>
            <a:ext cx="6445440" cy="4791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92360" y="368280"/>
            <a:ext cx="4390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DENA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19280" y="1125360"/>
            <a:ext cx="4364280" cy="5572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6000" y="1449360"/>
            <a:ext cx="8604000" cy="4608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3608280"/>
            <a:ext cx="2411640" cy="465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65400" y="3137040"/>
            <a:ext cx="1082880" cy="46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0" y="2852640"/>
            <a:ext cx="463680" cy="465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3133800"/>
            <a:ext cx="1082520" cy="46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8360" y="2744640"/>
            <a:ext cx="63828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59680" y="3597120"/>
            <a:ext cx="153720" cy="465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3213000"/>
            <a:ext cx="773280" cy="4269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4000" y="2781360"/>
            <a:ext cx="1084320" cy="453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72360" y="3645000"/>
            <a:ext cx="1904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456000" y="2384280"/>
            <a:ext cx="1440" cy="463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372360" y="2276280"/>
            <a:ext cx="1440" cy="463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213000"/>
            <a:ext cx="115272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erbívo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681360"/>
            <a:ext cx="139212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.5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2924280"/>
            <a:ext cx="928800" cy="30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9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2457360"/>
            <a:ext cx="309600" cy="320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2205000"/>
            <a:ext cx="3096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7640" y="2781360"/>
            <a:ext cx="76176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7640" y="3284640"/>
            <a:ext cx="92844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0" y="4581360"/>
            <a:ext cx="5400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473720"/>
            <a:ext cx="618840" cy="3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10800000">
            <a:off x="7920000" y="4543920"/>
            <a:ext cx="6192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6840" y="3660840"/>
            <a:ext cx="611280" cy="40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640" y="5373720"/>
            <a:ext cx="7813800" cy="431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= pradera templada; B = bosque templado; C = Red planta-pará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645000"/>
            <a:ext cx="136692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du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708280"/>
            <a:ext cx="139212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rnívoros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205000"/>
            <a:ext cx="1295640" cy="341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rnívoro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557360"/>
            <a:ext cx="1548000" cy="358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Nivel</a:t>
            </a: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ró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22120" y="789120"/>
            <a:ext cx="35334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 de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24360" y="3321000"/>
            <a:ext cx="914400" cy="289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0000" y="3249720"/>
            <a:ext cx="973080" cy="30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77080" y="3249720"/>
            <a:ext cx="828360" cy="3236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557360"/>
            <a:ext cx="4895640" cy="14655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J.: SI SE QUIERE ESTUDIAR A LAS HORMIGAS, PODEMOS MODELAR UN “SISTEMA HORMIGERO”  CON LAS RELACIONES SOCIALES Y ARQUITEC-TONICAS DE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4720" y="2060640"/>
            <a:ext cx="1079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64360" y="1484280"/>
            <a:ext cx="2052720" cy="1436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68360" y="3753000"/>
            <a:ext cx="493236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DETALLE ESTUDIAMOS EL COMPOR-TAMIENTO Y BIOLOGIA DE LA HORM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6360" y="4076640"/>
            <a:ext cx="1079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732720" y="3465360"/>
            <a:ext cx="1285920" cy="1028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39640" y="5121360"/>
            <a:ext cx="4861080" cy="9169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S EN DETALLE, SU ANATOMIA Y FISIOLOGÍA PARA ENTENDERLA COMO SER V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5624640"/>
            <a:ext cx="1079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624720" y="497664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10560" y="1832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5320" y="1859040"/>
            <a:ext cx="8274240" cy="337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2720" y="2712960"/>
            <a:ext cx="3366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2720" y="2712960"/>
            <a:ext cx="336600" cy="505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8200" y="3218040"/>
            <a:ext cx="337176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8200" y="3218040"/>
            <a:ext cx="3371760" cy="5047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4600" y="3218040"/>
            <a:ext cx="67320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4600" y="3218040"/>
            <a:ext cx="673200" cy="5047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94080" y="2712960"/>
            <a:ext cx="3366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94080" y="2712960"/>
            <a:ext cx="336600" cy="505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3386160"/>
            <a:ext cx="2022480" cy="336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38840" y="34290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608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3386160"/>
            <a:ext cx="505080" cy="336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3432240"/>
            <a:ext cx="31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5932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2712960"/>
            <a:ext cx="5065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4120" y="2797200"/>
            <a:ext cx="18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38040" y="3008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22640" y="300816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2292480"/>
            <a:ext cx="16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98800" y="2712960"/>
            <a:ext cx="5065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2855880"/>
            <a:ext cx="28224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9400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662200" y="2209680"/>
            <a:ext cx="1800" cy="503280"/>
          </a:xfrm>
          <a:prstGeom prst="line">
            <a:avLst/>
          </a:prstGeom>
          <a:ln w="144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2209680"/>
            <a:ext cx="50652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45880" y="2292480"/>
            <a:ext cx="9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2640" y="22924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91200" y="2209680"/>
            <a:ext cx="1440" cy="503280"/>
          </a:xfrm>
          <a:prstGeom prst="line">
            <a:avLst/>
          </a:prstGeom>
          <a:ln w="55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40480" y="2712960"/>
            <a:ext cx="5047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3388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2209680"/>
            <a:ext cx="67320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30800" y="22924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56440" y="29653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7760" y="3470400"/>
            <a:ext cx="3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51640" y="34704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30800" y="229248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25600" y="4059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0" y="3968640"/>
            <a:ext cx="43164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99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8560" y="4129200"/>
            <a:ext cx="5544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4600" y="4059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6376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17560" y="4129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2744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9556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5040" y="4129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4520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06800" y="489888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35520" y="4005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0800000">
            <a:off x="501480" y="5471640"/>
            <a:ext cx="8283600" cy="54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a) bosque tropical lluvioso; (b) Lago; (c) campo agrícola abandonado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gr peso seco/m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62000" y="619200"/>
            <a:ext cx="36522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 bio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26080" y="3218040"/>
            <a:ext cx="843120" cy="504720"/>
          </a:xfrm>
          <a:prstGeom prst="rect">
            <a:avLst/>
          </a:prstGeom>
          <a:solidFill>
            <a:srgbClr val="66ff33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91040" y="34322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8632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885000" y="2712600"/>
            <a:ext cx="1440" cy="505080"/>
          </a:xfrm>
          <a:prstGeom prst="line">
            <a:avLst/>
          </a:prstGeom>
          <a:ln w="42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4832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38800" y="2292480"/>
            <a:ext cx="31464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885000" y="2209680"/>
            <a:ext cx="1440" cy="503280"/>
          </a:xfrm>
          <a:prstGeom prst="line">
            <a:avLst/>
          </a:prstGeom>
          <a:ln w="144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45240" y="4005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3640" y="2747880"/>
            <a:ext cx="9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26920" y="1557360"/>
            <a:ext cx="7848720" cy="453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52960" y="681120"/>
            <a:ext cx="467028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 de flujo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03480" y="3462480"/>
            <a:ext cx="2431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4600" y="3492360"/>
            <a:ext cx="2922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83520" y="3533760"/>
            <a:ext cx="76176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33640" y="3005280"/>
            <a:ext cx="73800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56280" y="3035160"/>
            <a:ext cx="4237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88080" y="3076560"/>
            <a:ext cx="22860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93920" y="2548080"/>
            <a:ext cx="19044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411280" y="2222640"/>
            <a:ext cx="0" cy="342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364000" y="2692440"/>
            <a:ext cx="0" cy="342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702560" y="2733840"/>
            <a:ext cx="0" cy="34272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702560" y="2390400"/>
            <a:ext cx="0" cy="34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89280" y="3573360"/>
            <a:ext cx="1027080" cy="16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8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70520" y="3573360"/>
            <a:ext cx="969840" cy="26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.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3645000"/>
            <a:ext cx="550800" cy="231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35160" y="2637000"/>
            <a:ext cx="673200" cy="25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3141720"/>
            <a:ext cx="86040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.3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85080" y="3141720"/>
            <a:ext cx="601560" cy="27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3141720"/>
            <a:ext cx="61416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7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708280"/>
            <a:ext cx="512640" cy="2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0" y="2708280"/>
            <a:ext cx="503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76560" y="2205000"/>
            <a:ext cx="4158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16680" y="2276640"/>
            <a:ext cx="3430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98800" y="403380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22800" y="406404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73960" y="410544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4869000"/>
            <a:ext cx="7545600" cy="85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a) ecosistema acuático; (b) pantano; (c) lago (kcal/m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/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68640" y="549360"/>
            <a:ext cx="47829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iagrama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 flujo de energí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1679400"/>
            <a:ext cx="7561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560" y="476280"/>
            <a:ext cx="6653160" cy="78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clos biogeo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8920" y="1700280"/>
            <a:ext cx="8534160" cy="1313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Movimientos e interacciones de los elementos químicos esenciales para la vida a través de la geósfera y la biósfera, a través de procesos físicos, químicos y biológicos. Comprenden los siguientes tipos de cic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" y="3357720"/>
            <a:ext cx="846144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aseos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os nutrientes circulan principalmente entre la atmósfera y los organismos vivos, el reciclaje es rápido. Corresponde a los ciclos del Carbono, Nitrógeno y Oxí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4616280"/>
            <a:ext cx="8424720" cy="155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dimentario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: los nutrientes circulan principalmente en la corteza terrestre (suelo, rocas, sedimentos), la hidrosfera y los organismos vivos; el reciclaje es mucho más lento (los elementos son retenidos en las rocas sedimentarias durante largo periodo de tiempo con frecuencias de miles a millones de años) Corresponde a los ciclos del Fósforo y el Azufre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476280"/>
            <a:ext cx="6653160" cy="78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clos biogeo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881000"/>
            <a:ext cx="8496360" cy="14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hidrológico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agua circula entre el océano, la atmósfera, la tierra y los organismos vivos, este ciclo además distribuye el calor solar sobre la superficie del planeta.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280" y="1665360"/>
            <a:ext cx="7705800" cy="21686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CUANTO A SU INTERCAMBIO DE MATERIA Y ENERGIA CON OTROS SISTEMAS PODEMOS HABLAR DE SISTE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IERTOS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AY ENTRADAS Y SALIDAS DE MATERIAS Y ENER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RRADO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NO HAY INTERCAMBIO DE MATERIA PERO SI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SLADO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NO EXISTE INTERCAMBIO DE MATERIA O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6360" y="3968640"/>
            <a:ext cx="2108160" cy="2635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51280" y="4365720"/>
            <a:ext cx="270180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48360" y="4365720"/>
            <a:ext cx="2035080" cy="205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76360" y="4036680"/>
            <a:ext cx="79898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: función de forzamiento (energía; mater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: propie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: flujos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 : inter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68600" y="1798560"/>
            <a:ext cx="4524120" cy="2079720"/>
            <a:chOff x="1668600" y="1798560"/>
            <a:chExt cx="4524120" cy="2079720"/>
          </a:xfrm>
        </p:grpSpPr>
        <p:sp>
          <p:nvSpPr>
            <p:cNvPr id="83" name=""/>
            <p:cNvSpPr/>
            <p:nvPr/>
          </p:nvSpPr>
          <p:spPr>
            <a:xfrm>
              <a:off x="2491200" y="1798560"/>
              <a:ext cx="3454920" cy="207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68600" y="1987560"/>
              <a:ext cx="575640" cy="56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3120" y="2176560"/>
              <a:ext cx="246600" cy="283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02320" y="208188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3520" y="255456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02320" y="321660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9440" y="2554560"/>
              <a:ext cx="658080" cy="37800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71880" y="2649240"/>
              <a:ext cx="329040" cy="2833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4240" y="2271240"/>
              <a:ext cx="65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9280" y="2460240"/>
              <a:ext cx="0" cy="75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13800" y="2271240"/>
              <a:ext cx="658080" cy="472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313800" y="2743920"/>
              <a:ext cx="658080" cy="66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47520" y="2743920"/>
              <a:ext cx="57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3280" y="198756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31360" y="264924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0400" y="217656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2840" y="312192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29960" y="246024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4640" y="2743920"/>
              <a:ext cx="65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76360" y="549360"/>
            <a:ext cx="817236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ponentes básicos en la elaboración de modelos de sistemas e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92360" y="1881360"/>
          <a:ext cx="5742000" cy="4305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81360"/>
                    <a:ext cx="5742000" cy="4305240"/>
                  </a:xfrm>
                  <a:prstGeom prst="rect">
                    <a:avLst/>
                  </a:prstGeom>
                  <a:ln w="7632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4360" y="873000"/>
            <a:ext cx="774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presentación funcional de un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5440"/>
            <a:ext cx="8229600" cy="66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ganización estructural del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34920" y="1384200"/>
            <a:ext cx="7093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turaleza cibernética y estabilidad de los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736640"/>
            <a:ext cx="4462200" cy="334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161320"/>
            <a:ext cx="7920000" cy="1099440"/>
          </a:xfrm>
          <a:prstGeom prst="rect">
            <a:avLst/>
          </a:prstGeom>
          <a:solidFill>
            <a:srgbClr val="ff6600"/>
          </a:solidFill>
          <a:ln w="9360">
            <a:solidFill>
              <a:srgbClr val="f5e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tabilidad (resiliencia):</a:t>
            </a:r>
            <a:r>
              <a:rPr b="1" lang="es-ES_tradnl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ff"/>
                </a:solidFill>
                <a:latin typeface="Arial"/>
              </a:rPr>
              <a:t>tendencia de un sistema a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permanecer</a:t>
            </a:r>
            <a:r>
              <a:rPr b="0" lang="es-ES_tradnl" sz="2200" spc="-1" strike="noStrike">
                <a:solidFill>
                  <a:srgbClr val="0000ff"/>
                </a:solidFill>
                <a:latin typeface="Arial"/>
              </a:rPr>
              <a:t> en su condición presente o de retornar a esta a continuación de un disturbio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2133720"/>
            <a:ext cx="3311640" cy="2775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Homeostasis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endencia de los organismos vivos o sistemas biológicos a mantener un equilibrio dinámico en sus estructuras y procesos a pesar de las variaciones del medio exter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000080"/>
            <a:ext cx="7488360" cy="495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835280" y="333360"/>
            <a:ext cx="5616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 des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938160"/>
            <a:ext cx="7561440" cy="5227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195640" y="189000"/>
            <a:ext cx="49687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 ma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4:40:10Z</dcterms:created>
  <dc:creator>Carmen L.</dc:creator>
  <dc:description/>
  <dc:language>en-US</dc:language>
  <cp:lastModifiedBy>Carmen L.</cp:lastModifiedBy>
  <dcterms:modified xsi:type="dcterms:W3CDTF">2008-01-10T14:40:50Z</dcterms:modified>
  <cp:revision>1</cp:revision>
  <dc:subject/>
  <dc:title>Diapositiva 1</dc:title>
</cp:coreProperties>
</file>